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52FC-2BF6-4919-A5A2-EE82E578C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3B02-D41F-4C78-AF0E-5094AD6F3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7FB-4389-4A78-BAD7-85E717B9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06D-5C28-4F39-8850-DBD2AC94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005-9718-42BC-883C-D4E2C336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AB9-3A69-448E-A5E4-33EAD69E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787-F280-4C67-A117-1B311F28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C8B-A0E7-4725-BC32-35FD850E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3D8-F655-4A60-BE89-D69BEC5A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94C-8365-4A5D-AB85-112BAFA8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A90-D2BA-4564-B35D-F8061F0D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FB7-4198-4B29-B512-A9A0E6CF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E7D-62AA-462B-A3FF-0D52AA96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BAC-6B23-44F0-A452-405BD99A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69BF-CFBA-4FDA-8B44-189EA4B50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530280" y="2054160"/>
            <a:ext cx="7785000" cy="148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esentation by: Danae Jacobs, Hailey West, and Grace Arm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C:\Documents and Settings\HP_Administrator\Local Settings\Temporary Internet Files\Content.IE5\OJYH0X8D\MC900083803[1].wmf"/>
          <p:cNvPicPr/>
          <p:nvPr/>
        </p:nvPicPr>
        <p:blipFill>
          <a:blip r:embed="rId2"/>
          <a:stretch/>
        </p:blipFill>
        <p:spPr>
          <a:xfrm>
            <a:off x="7467480" y="1143000"/>
            <a:ext cx="1549440" cy="181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Documents and Settings\HP_Administrator\Local Settings\Temporary Internet Files\Content.IE5\I5GVUF2B\MC900083797[1].wmf"/>
          <p:cNvPicPr/>
          <p:nvPr/>
        </p:nvPicPr>
        <p:blipFill>
          <a:blip r:embed="rId3"/>
          <a:stretch/>
        </p:blipFill>
        <p:spPr>
          <a:xfrm>
            <a:off x="5638680" y="380880"/>
            <a:ext cx="1557360" cy="181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Documents and Settings\HP_Administrator\Local Settings\Temporary Internet Files\Content.IE5\UNS18Z0T\MC900083799[1].wmf"/>
          <p:cNvPicPr/>
          <p:nvPr/>
        </p:nvPicPr>
        <p:blipFill>
          <a:blip r:embed="rId4"/>
          <a:stretch/>
        </p:blipFill>
        <p:spPr>
          <a:xfrm>
            <a:off x="5791320" y="4724280"/>
            <a:ext cx="1547640" cy="180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C:\Documents and Settings\HP_Administrator\Local Settings\Temporary Internet Files\Content.IE5\UZEFYD4F\MC900083811[1].wmf"/>
          <p:cNvPicPr/>
          <p:nvPr/>
        </p:nvPicPr>
        <p:blipFill>
          <a:blip r:embed="rId5"/>
          <a:stretch/>
        </p:blipFill>
        <p:spPr>
          <a:xfrm>
            <a:off x="152280" y="1447920"/>
            <a:ext cx="1559160" cy="180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C:\Documents and Settings\HP_Administrator\Local Settings\Temporary Internet Files\Content.IE5\OJYH0X8D\MC900083813[1].wmf"/>
          <p:cNvPicPr/>
          <p:nvPr/>
        </p:nvPicPr>
        <p:blipFill>
          <a:blip r:embed="rId6"/>
          <a:stretch/>
        </p:blipFill>
        <p:spPr>
          <a:xfrm>
            <a:off x="0" y="3733920"/>
            <a:ext cx="1554120" cy="179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C:\Documents and Settings\HP_Administrator\Local Settings\Temporary Internet Files\Content.IE5\I5GVUF2B\MC900083805[1].wmf"/>
          <p:cNvPicPr/>
          <p:nvPr/>
        </p:nvPicPr>
        <p:blipFill>
          <a:blip r:embed="rId7"/>
          <a:stretch/>
        </p:blipFill>
        <p:spPr>
          <a:xfrm>
            <a:off x="1981080" y="4648320"/>
            <a:ext cx="154944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C:\Documents and Settings\HP_Administrator\Local Settings\Temporary Internet Files\Content.IE5\UNS18Z0T\MC900083809[1].wmf"/>
          <p:cNvPicPr/>
          <p:nvPr/>
        </p:nvPicPr>
        <p:blipFill>
          <a:blip r:embed="rId8"/>
          <a:stretch/>
        </p:blipFill>
        <p:spPr>
          <a:xfrm>
            <a:off x="1981080" y="380880"/>
            <a:ext cx="1554120" cy="180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C:\Documents and Settings\HP_Administrator\Local Settings\Temporary Internet Files\Content.IE5\UZEFYD4F\MC900083807[1].wmf"/>
          <p:cNvPicPr/>
          <p:nvPr/>
        </p:nvPicPr>
        <p:blipFill>
          <a:blip r:embed="rId9"/>
          <a:stretch/>
        </p:blipFill>
        <p:spPr>
          <a:xfrm>
            <a:off x="3962520" y="4952880"/>
            <a:ext cx="1544400" cy="180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C:\Documents and Settings\HP_Administrator\Local Settings\Temporary Internet Files\Content.IE5\OJYH0X8D\MC900083801[1].wmf"/>
          <p:cNvPicPr/>
          <p:nvPr/>
        </p:nvPicPr>
        <p:blipFill>
          <a:blip r:embed="rId10"/>
          <a:stretch/>
        </p:blipFill>
        <p:spPr>
          <a:xfrm>
            <a:off x="7599240" y="3581280"/>
            <a:ext cx="1544760" cy="180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C:\Documents and Settings\HP_Administrator\Local Settings\Temporary Internet Files\Content.IE5\UNS18Z0T\MC900083819[1].wmf"/>
          <p:cNvPicPr/>
          <p:nvPr/>
        </p:nvPicPr>
        <p:blipFill>
          <a:blip r:embed="rId11"/>
          <a:stretch/>
        </p:blipFill>
        <p:spPr>
          <a:xfrm>
            <a:off x="3809880" y="0"/>
            <a:ext cx="155412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tational Period (Earth Years)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Hailey W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 of a Pla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Planet must follow the following criteria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shall orbit around the su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must not orbit another object (such as a moon orbits another plane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must have a sphere like shap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must rotate on its own axi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st not have an eccentricity level that exceeds .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must not have an orbital period that exceeds 250 Earth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not be more than 40 AU’s From the S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orbit.jpg"/>
          <p:cNvPicPr/>
          <p:nvPr/>
        </p:nvPicPr>
        <p:blipFill>
          <a:blip r:embed="rId1"/>
          <a:stretch/>
        </p:blipFill>
        <p:spPr>
          <a:xfrm>
            <a:off x="6324480" y="4724280"/>
            <a:ext cx="2438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 of a Dwarf Planet and other Objects Orbiting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1752480"/>
          <a:ext cx="8229600" cy="4780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warf Pla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her Orbiting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orbit the s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orbit either a planet, dwarf planet, or an asteroid and the s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t orbit the s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not orbit any other objects (such as a moon orbits a pla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rotate on its own ax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ay or may not rotate on its own ax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t not have an orbital period that exceeds 570 earth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have nothing (natural; not man made) orbit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ay or may not have enough mass to sustain its own gra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have a sphere like sh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ust have a sphere like sh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may or may not have other objects orbit 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t not have an eccentricity level that exceeds 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 in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219320"/>
          <a:ext cx="8229600" cy="5294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warf Plan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me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me Orbiting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c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um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th’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ell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m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'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piter’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te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n’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o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p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anus’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cket Ship deb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tune’s m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a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n that orbit aste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t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bital Eccentricity Graph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anae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18"/>
          <p:cNvSpPr/>
          <p:nvPr/>
        </p:nvSpPr>
        <p:spPr>
          <a:xfrm>
            <a:off x="8152560" y="5791320"/>
            <a:ext cx="228600" cy="3045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1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16"/>
          <p:cNvSpPr/>
          <p:nvPr/>
        </p:nvSpPr>
        <p:spPr>
          <a:xfrm>
            <a:off x="228600" y="3581280"/>
            <a:ext cx="86868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0"/>
          <p:cNvSpPr/>
          <p:nvPr/>
        </p:nvSpPr>
        <p:spPr>
          <a:xfrm>
            <a:off x="8077320" y="5257800"/>
            <a:ext cx="304560" cy="228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meter of Planet (km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anae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74" name="Straight Connector 5"/>
          <p:cNvSpPr/>
          <p:nvPr/>
        </p:nvSpPr>
        <p:spPr>
          <a:xfrm>
            <a:off x="8077320" y="5486400"/>
            <a:ext cx="304560" cy="228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of Moon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Grace Arm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ance from Sun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Grace Arm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42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bital Period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Hailey W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5"/>
          <p:cNvSpPr/>
          <p:nvPr/>
        </p:nvSpPr>
        <p:spPr>
          <a:xfrm>
            <a:off x="8000280" y="5105520"/>
            <a:ext cx="304920" cy="3808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7"/>
          <p:cNvSpPr/>
          <p:nvPr/>
        </p:nvSpPr>
        <p:spPr>
          <a:xfrm>
            <a:off x="380880" y="3809880"/>
            <a:ext cx="84582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0"/>
          <p:cNvSpPr/>
          <p:nvPr/>
        </p:nvSpPr>
        <p:spPr>
          <a:xfrm>
            <a:off x="7315200" y="5257800"/>
            <a:ext cx="457200" cy="4572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3"/>
          <p:cNvSpPr/>
          <p:nvPr/>
        </p:nvSpPr>
        <p:spPr>
          <a:xfrm>
            <a:off x="6780960" y="5257800"/>
            <a:ext cx="381240" cy="3808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23:21:41Z</dcterms:created>
  <dc:creator>HP Authorized Customer</dc:creator>
  <dc:description/>
  <dc:language>en-US</dc:language>
  <cp:lastModifiedBy>mchamorro</cp:lastModifiedBy>
  <dcterms:modified xsi:type="dcterms:W3CDTF">2011-02-11T22:17:12Z</dcterms:modified>
  <cp:revision>22</cp:revision>
  <dc:subject/>
  <dc:title>What is a Planet?</dc:title>
</cp:coreProperties>
</file>